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25E-69F1-41B5-BBD5-5DA89CD3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C54-75E1-4F77-AD40-A75564DD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205-C1B2-449B-ABB2-81D8DD7C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282-0F5E-4955-AC6C-186B63C4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E2B-17BD-421B-B0D5-D99E16E6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5C3-B32D-4385-BA09-8B4DEC7B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1FE-E404-4409-9566-F15F3746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8F7-B55C-40BA-927E-550BF48D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57A-4BA6-4533-BA89-BCE1263A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D2E-BE72-43CB-A97A-411F6DBB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165-00FA-4569-8A10-7183CE82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A3C5-B0A3-4182-80DB-137611D9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43F8-7328-491B-B2B2-A6ECE39A4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2193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ub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4838760" cy="471492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51814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it rolled into the mean dogs bed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714680" y="1400040"/>
            <a:ext cx="5715000" cy="405792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2"/>
          <a:stretch/>
        </p:blipFill>
        <p:spPr>
          <a:xfrm>
            <a:off x="80010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bs  was very worried. He didn’t want to wake up the old do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4572000" cy="377820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80773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 he sat and waited for Moses to wake up on his ow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79" name="Recorded Sound" descr=""/>
          <p:cNvPicPr/>
          <p:nvPr/>
        </p:nvPicPr>
        <p:blipFill>
          <a:blip r:embed="rId2"/>
          <a:stretch/>
        </p:blipFill>
        <p:spPr>
          <a:xfrm>
            <a:off x="7924680" y="152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ited and waited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815328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the dog never mov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815328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entually Tubs started to get impati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114800" cy="3741480"/>
          </a:xfrm>
          <a:prstGeom prst="rect">
            <a:avLst/>
          </a:prstGeom>
          <a:ln w="0">
            <a:noFill/>
          </a:ln>
        </p:spPr>
      </p:pic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746748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 he got up! Slowly he walked towards the Dogs bed. Being very quie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4857840" cy="469584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777240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the dog woke up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2428920" y="1300320"/>
            <a:ext cx="4286160" cy="425736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barked at tubs saying, what are you do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4586040" cy="309564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76960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bs was very scared. He asked may I please have my ball back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838080" y="4876920"/>
            <a:ext cx="1266840" cy="126684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2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6629400" cy="4068720"/>
          </a:xfrm>
          <a:prstGeom prst="rect">
            <a:avLst/>
          </a:prstGeom>
          <a:ln w="0">
            <a:noFill/>
          </a:ln>
        </p:spPr>
      </p:pic>
      <p:pic>
        <p:nvPicPr>
          <p:cNvPr id="101" name="Recorded Sound" descr=""/>
          <p:cNvPicPr/>
          <p:nvPr/>
        </p:nvPicPr>
        <p:blipFill>
          <a:blip r:embed="rId3"/>
          <a:stretch/>
        </p:blipFill>
        <p:spPr>
          <a:xfrm>
            <a:off x="76960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was a ca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473076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6934320" y="685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old dog smiled and said “Sure,” and threw the ball bac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096240" cy="4057560"/>
          </a:xfrm>
          <a:prstGeom prst="rect">
            <a:avLst/>
          </a:prstGeom>
          <a:ln w="0">
            <a:noFill/>
          </a:ln>
        </p:spPr>
      </p:pic>
      <p:pic>
        <p:nvPicPr>
          <p:cNvPr id="104" name="Recorded Sound" descr=""/>
          <p:cNvPicPr/>
          <p:nvPr/>
        </p:nvPicPr>
        <p:blipFill>
          <a:blip r:embed="rId2"/>
          <a:stretch/>
        </p:blipFill>
        <p:spPr>
          <a:xfrm>
            <a:off x="762012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7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og wasn’t very mean after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3603600" cy="4324320"/>
          </a:xfrm>
          <a:prstGeom prst="rect">
            <a:avLst/>
          </a:prstGeom>
          <a:ln w="0">
            <a:noFill/>
          </a:ln>
        </p:spPr>
      </p:pic>
      <p:pic>
        <p:nvPicPr>
          <p:cNvPr id="107" name="Recorded Sound" descr=""/>
          <p:cNvPicPr/>
          <p:nvPr/>
        </p:nvPicPr>
        <p:blipFill>
          <a:blip r:embed="rId2"/>
          <a:stretch/>
        </p:blipFill>
        <p:spPr>
          <a:xfrm>
            <a:off x="76201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 name was Tu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2" descr=""/>
          <p:cNvPicPr/>
          <p:nvPr/>
        </p:nvPicPr>
        <p:blipFill>
          <a:blip r:embed="rId1"/>
          <a:stretch/>
        </p:blipFill>
        <p:spPr>
          <a:xfrm rot="19759800">
            <a:off x="380880" y="198108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523960" cy="2857680"/>
          </a:xfrm>
          <a:prstGeom prst="rect">
            <a:avLst/>
          </a:prstGeom>
          <a:ln w="0">
            <a:noFill/>
          </a:ln>
        </p:spPr>
      </p:pic>
      <p:pic>
        <p:nvPicPr>
          <p:cNvPr id="50" name="Recorded Sound" descr=""/>
          <p:cNvPicPr/>
          <p:nvPr/>
        </p:nvPicPr>
        <p:blipFill>
          <a:blip r:embed="rId3"/>
          <a:stretch/>
        </p:blipFill>
        <p:spPr>
          <a:xfrm>
            <a:off x="76960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bs was a young ca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 rot="20866800">
            <a:off x="2285640" y="1447560"/>
            <a:ext cx="4540320" cy="4781520"/>
          </a:xfrm>
          <a:prstGeom prst="rect">
            <a:avLst/>
          </a:prstGeom>
          <a:ln w="0">
            <a:noFill/>
          </a:ln>
        </p:spPr>
      </p:pic>
      <p:pic>
        <p:nvPicPr>
          <p:cNvPr id="53" name="Recorded Sound" descr=""/>
          <p:cNvPicPr/>
          <p:nvPr/>
        </p:nvPicPr>
        <p:blipFill>
          <a:blip r:embed="rId2"/>
          <a:stretch/>
        </p:blipFill>
        <p:spPr>
          <a:xfrm>
            <a:off x="75438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s very playfu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4838760" cy="471492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bs lived with a do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 rot="21058200">
            <a:off x="5029200" y="25146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3343320" cy="333360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3"/>
          <a:stretch/>
        </p:blipFill>
        <p:spPr>
          <a:xfrm>
            <a:off x="76960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ogs name was Mos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3343320" cy="33336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2"/>
          <a:stretch/>
        </p:blipFill>
        <p:spPr>
          <a:xfrm rot="19759800">
            <a:off x="380880" y="198108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3"/>
          <a:stretch/>
        </p:blipFill>
        <p:spPr>
          <a:xfrm>
            <a:off x="80010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ses was a very mean and old do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981080" y="1133640"/>
            <a:ext cx="4962600" cy="572436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7620120" y="1600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 day Tubs was playing with a little ball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2286000" y="2043000"/>
            <a:ext cx="4371840" cy="410076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4:53Z</dcterms:created>
  <dc:creator>itsuser</dc:creator>
  <dc:description/>
  <dc:language>en-US</dc:language>
  <cp:lastModifiedBy>itsuser</cp:lastModifiedBy>
  <dcterms:modified xsi:type="dcterms:W3CDTF">2009-03-17T16:16:07Z</dcterms:modified>
  <cp:revision>6</cp:revision>
  <dc:subject/>
  <dc:title>Tubs</dc:title>
</cp:coreProperties>
</file>